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0D0B-8AED-44D4-83BC-1352C250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75C3-AECC-4D15-BAB1-B57D6E62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5713-C8D9-45D4-BF8F-A6187489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BE23-C17D-41D8-8E2F-912AB2EE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9378A-BA26-4DCE-97ED-4AE91941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406F6-BD35-49FC-AD4F-7A199B9D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B30CF-D07B-4DB2-BFBE-E657B5D4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93D58-306F-4993-87D9-28F5ED8D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982F9-992D-416D-8D92-8AA40259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7C339-ACE4-4C85-AC60-7BD9EE0C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313ED-F11E-4106-A36B-7DAEAA18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7EF5-FDDA-4902-93A8-D1A12E2C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2E1F5-053E-4975-8581-16397349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900D6-A52E-4991-B110-A9B87999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7F3C0-EAA5-40C1-BD41-59568290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80088-5E32-4524-A2CD-E7BA4FAD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4448B-ABEA-4984-9BB3-15400872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7D5E-8035-4AE8-8E46-59132105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DB6D-602B-474F-8E0E-180B9E19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35DC-F410-4518-A1ED-16F276E4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5775-FD71-494C-AC20-ECFBFDA7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3AE6-E498-482E-B5B5-76BAD320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FF84-8CAD-4869-B5D2-66401010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C693-2DEC-4CFC-916A-4CAE3B61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BD99-E302-4158-9CB4-26980A99AA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6608-AF6D-42CF-A844-B2849B9B82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X6CnNc3CFU" TargetMode="External"/><Relationship Id="rId2" Type="http://schemas.openxmlformats.org/officeDocument/2006/relationships/hyperlink" Target="http://www.youtube.com/watch?v=vX6CnNc3CFU" TargetMode="External"/><Relationship Id="rId3" Type="http://schemas.openxmlformats.org/officeDocument/2006/relationships/hyperlink" Target="http://www.youtube.com/watch?v=vX6CnNc3CFU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5812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By: Marie Bellamy, Theresa Austin, Lauren Umetsu, Eddie Ki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295280"/>
            <a:ext cx="777240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Arial Black"/>
              </a:rPr>
              <a:t>Hydrogen Fuel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2666880"/>
            <a:ext cx="8153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ydrogen is Very Sta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68580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drogen can be stored for long periods of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441972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there is a hydrogen leak, it can be replaced with no harm done to the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 Black"/>
                <a:hlinkClick r:id="rId1"/>
              </a:rPr>
              <a:t>http://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 Black"/>
                <a:hlinkClick r:id="rId2"/>
              </a:rPr>
              <a:t>www.youtube.com/watch?v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 Black"/>
                <a:hlinkClick r:id="rId3"/>
              </a:rPr>
              <a:t>=vX6CnNc3CF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04920" y="2742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cc"/>
                </a:solidFill>
                <a:latin typeface="Arial Black"/>
              </a:rPr>
              <a:t>AMAZING!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cc"/>
                </a:solidFill>
                <a:latin typeface="Arial Black"/>
              </a:rPr>
              <a:t>IT WILL BLOW YOUR MIND!!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halkboard Bold"/>
              </a:rPr>
              <a:t>Hydrogen Production-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halkboard Bold"/>
              </a:rPr>
              <a:t>Thermal Proces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halkboard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 Bold"/>
              </a:rPr>
              <a:t>Natural Gas Refor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 Bold"/>
              </a:rPr>
              <a:t>Steam Methane Reforming- popular method for producing hydro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 Bold"/>
              </a:rPr>
              <a:t>Efforts are focused on natural gas reforming for transition period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halkboard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 Bold"/>
              </a:rPr>
              <a:t>Biomass Gasif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 Bold"/>
              </a:rPr>
              <a:t>Renewable sources such as agricultural crop residues, animal waste, and forest residues are used to produce hydro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halkboard Bold"/>
              </a:rPr>
              <a:t>Hydrogen Production-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halkboard Bold"/>
              </a:rPr>
              <a:t>Thermal Process Continu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halkboard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halkboard Bold"/>
              </a:rPr>
              <a:t>Coal Gas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 Bold"/>
              </a:rPr>
              <a:t>Coal converted i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 Bold"/>
              </a:rPr>
              <a:t>gasses by apply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 Bold"/>
              </a:rPr>
              <a:t>heat under pres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 Bold"/>
              </a:rPr>
              <a:t>Coal is an abund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 Bold"/>
              </a:rPr>
              <a:t>and cheap resour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410080" y="2362320"/>
            <a:ext cx="3276720" cy="2057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5257800" y="4419720"/>
            <a:ext cx="388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4648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halkboard Bold"/>
              </a:rPr>
              <a:t>FutureGen, prototype plant supported by gover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Hydrogen Production-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lectrolytic Proces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ydrogen is harvested via fuel cells.  There are a few different types, the most apparent being the PEM (Proton Exchange Membrane/ Polymer Electrolyte membran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other option is the Direct Methanol Fuel Cell – it has some cons, however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 Black"/>
              </a:rPr>
              <a:t>How It’s Us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Hydrogen has many uses – however, there are two distinct typ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Fuel cells can be used in cars and many other applications such as hom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therwise, a internal combustion engine can be fed in the same way that it is powered by petrole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98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Gadget"/>
              </a:rPr>
              <a:t>The Cons of</a:t>
            </a:r>
            <a:br>
              <a:rPr sz="9600"/>
            </a:br>
            <a:r>
              <a:rPr b="0" lang="en-US" sz="9600" spc="-1" strike="noStrike">
                <a:solidFill>
                  <a:srgbClr val="ffffff"/>
                </a:solidFill>
                <a:latin typeface="Gadget"/>
              </a:rPr>
              <a:t>Hydrogen Fuel</a:t>
            </a:r>
            <a:br>
              <a:rPr sz="9600"/>
            </a:br>
            <a:r>
              <a:rPr b="0" lang="en-US" sz="9600" spc="-1" strike="noStrike">
                <a:solidFill>
                  <a:srgbClr val="ffffff"/>
                </a:solidFill>
                <a:latin typeface="Gadget"/>
              </a:rPr>
              <a:t>!!!!!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694539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Gadget"/>
              </a:rPr>
              <a:t>Hydrogen Fuel –</a:t>
            </a:r>
            <a:r>
              <a:rPr b="0" lang="en-US" sz="4800" spc="-1" strike="noStrike">
                <a:solidFill>
                  <a:srgbClr val="ff0000"/>
                </a:solidFill>
                <a:latin typeface="Gadget"/>
              </a:rPr>
              <a:t> The Dark Sid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038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Impact"/>
              </a:rPr>
              <a:t>Cannot be harvested direc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Impact"/>
              </a:rPr>
              <a:t>Too dependent on fossil fu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Impact"/>
              </a:rPr>
              <a:t>Cost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Impact"/>
              </a:rPr>
              <a:t>Feedstock (coal) can cause pol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Impact"/>
              </a:rPr>
              <a:t>Technology to produce Hydrogen will take too lo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62120" y="5335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09680" y="1676520"/>
            <a:ext cx="2819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86400" y="3505320"/>
            <a:ext cx="561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19320" y="4648320"/>
            <a:ext cx="67816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ydrog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326009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85800" y="457200"/>
            <a:ext cx="79772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ydrogen is go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 the environmen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ydrogen is extremely clean fuel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only byproducts are heat and water when used in a fuel cell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is colorless, odorless, and non-polluting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e water vapor comes out of exhaust instead of carbon monoxid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combusted directly or with hydrocarbon fuels, very few emissions are produced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07:05:54Z</dcterms:created>
  <dc:creator>Marie Bellamy</dc:creator>
  <dc:description/>
  <dc:language>en-US</dc:language>
  <cp:lastModifiedBy>Punahou School</cp:lastModifiedBy>
  <dcterms:modified xsi:type="dcterms:W3CDTF">2007-04-03T23:30:01Z</dcterms:modified>
  <cp:revision>14</cp:revision>
  <dc:subject/>
  <dc:title>Hydorgen Fuel – The Dark Side</dc:title>
</cp:coreProperties>
</file>